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8288000" cy="152781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D201-A0EE-4722-8653-0C09469EB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1357200"/>
            <a:ext cx="15544800" cy="25466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4414680"/>
            <a:ext cx="15544800" cy="43714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9201960"/>
            <a:ext cx="15544800" cy="43714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3EA6-B364-4B87-92B3-2B541F05D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600" y="1357200"/>
            <a:ext cx="15544800" cy="25466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4414680"/>
            <a:ext cx="7585560" cy="43714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336960" y="4414680"/>
            <a:ext cx="7585560" cy="43714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9201960"/>
            <a:ext cx="7585560" cy="43714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9336960" y="9201960"/>
            <a:ext cx="7585560" cy="43714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4002-6660-4434-AD90-C9A4F074A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600" y="1357200"/>
            <a:ext cx="15544800" cy="25466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4414680"/>
            <a:ext cx="5005080" cy="43714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627240" y="4414680"/>
            <a:ext cx="5005080" cy="43714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1882880" y="4414680"/>
            <a:ext cx="5005080" cy="43714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9201960"/>
            <a:ext cx="5005080" cy="43714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6627240" y="9201960"/>
            <a:ext cx="5005080" cy="43714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1882880" y="9201960"/>
            <a:ext cx="5005080" cy="43714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FB05-00F2-4660-A871-9E3C87979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600" y="1357200"/>
            <a:ext cx="15544800" cy="25466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4414680"/>
            <a:ext cx="15544800" cy="916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F531-880B-4508-A7CC-AFD92D04E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600" y="1357200"/>
            <a:ext cx="15544800" cy="25466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4414680"/>
            <a:ext cx="15544800" cy="91648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6C11-ABB0-41F0-8DBF-D6EF8215F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600" y="1357200"/>
            <a:ext cx="15544800" cy="25466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4414680"/>
            <a:ext cx="7585560" cy="91648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9336960" y="4414680"/>
            <a:ext cx="7585560" cy="91648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359F-F0FC-46D3-B07B-546930C1A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600" y="1357200"/>
            <a:ext cx="15544800" cy="25466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E1F3-8C23-4158-837C-A809A629A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600" y="1357200"/>
            <a:ext cx="15544800" cy="118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821B-0B05-4D1F-9EF4-212B3DEA6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600" y="1357200"/>
            <a:ext cx="15544800" cy="25466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4414680"/>
            <a:ext cx="7585560" cy="43714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9336960" y="4414680"/>
            <a:ext cx="7585560" cy="91648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9201960"/>
            <a:ext cx="7585560" cy="43714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0E59-8F0A-435D-9657-3DC5A148B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600" y="1357200"/>
            <a:ext cx="15544800" cy="25466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4414680"/>
            <a:ext cx="7585560" cy="91648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9336960" y="4414680"/>
            <a:ext cx="7585560" cy="43714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336960" y="9201960"/>
            <a:ext cx="7585560" cy="43714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AA3D-8B76-4B9A-9E60-43A6CAB44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600" y="1357200"/>
            <a:ext cx="15544800" cy="25466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4414680"/>
            <a:ext cx="7585560" cy="43714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9336960" y="4414680"/>
            <a:ext cx="7585560" cy="43714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9201960"/>
            <a:ext cx="15544800" cy="43714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410A-84F9-4ECB-99E0-CF31CA447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600" y="1357200"/>
            <a:ext cx="15544800" cy="25466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4414680"/>
            <a:ext cx="15544800" cy="91648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marL="390600" indent="-390600">
              <a:spcBef>
                <a:spcPts val="924"/>
              </a:spcBef>
              <a:buClr>
                <a:srgbClr val="000000"/>
              </a:buClr>
              <a:buFont typeface="Times New Roman"/>
              <a:buChar char="•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lvl="1" marL="844560" indent="-325440">
              <a:spcBef>
                <a:spcPts val="924"/>
              </a:spcBef>
              <a:buClr>
                <a:srgbClr val="000000"/>
              </a:buClr>
              <a:buFont typeface="Times New Roman"/>
              <a:buChar char="–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lvl="2" marL="1300320" indent="-260640">
              <a:spcBef>
                <a:spcPts val="924"/>
              </a:spcBef>
              <a:buClr>
                <a:srgbClr val="000000"/>
              </a:buClr>
              <a:buFont typeface="Times New Roman"/>
              <a:buChar char="•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lvl="3" marL="1819440" indent="-260640">
              <a:spcBef>
                <a:spcPts val="924"/>
              </a:spcBef>
              <a:buClr>
                <a:srgbClr val="000000"/>
              </a:buClr>
              <a:buFont typeface="Times New Roman"/>
              <a:buChar char="–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lvl="4" marL="2340000" indent="-260280">
              <a:spcBef>
                <a:spcPts val="924"/>
              </a:spcBef>
              <a:buClr>
                <a:srgbClr val="000000"/>
              </a:buClr>
              <a:buFont typeface="Times New Roman"/>
              <a:buChar char="»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lvl="5" marL="2340000" indent="-260280">
              <a:spcBef>
                <a:spcPts val="924"/>
              </a:spcBef>
              <a:buClr>
                <a:srgbClr val="000000"/>
              </a:buClr>
              <a:buFont typeface="Times New Roman"/>
              <a:buChar char="»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lvl="6" marL="2340000" indent="-260280">
              <a:spcBef>
                <a:spcPts val="924"/>
              </a:spcBef>
              <a:buClr>
                <a:srgbClr val="000000"/>
              </a:buClr>
              <a:buFont typeface="Times New Roman"/>
              <a:buChar char="»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371240" y="13920840"/>
            <a:ext cx="3809880" cy="1017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Autofit/>
          </a:bodyPr>
          <a:lstStyle>
            <a:lvl1pPr indent="0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  <a:defRPr b="0" lang="es-E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248520" y="13920840"/>
            <a:ext cx="5790960" cy="1017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Autofit/>
          </a:bodyPr>
          <a:lstStyle>
            <a:lvl1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  <a:defRPr b="0" lang="es-E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3106160" y="13920840"/>
            <a:ext cx="3809880" cy="1017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Autofit/>
          </a:bodyPr>
          <a:lstStyle>
            <a:lvl1pPr indent="0" algn="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  <a:defRPr b="0" lang="es-E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fld id="{BB7808DB-3C5D-42ED-8B94-7D7E6BDD40D6}" type="slidenum"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600" y="914400"/>
            <a:ext cx="15544800" cy="36576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s-AR" sz="5000" spc="-1" strike="noStrike">
                <a:solidFill>
                  <a:srgbClr val="000000"/>
                </a:solidFill>
                <a:latin typeface="Times New Roman"/>
              </a:rPr>
              <a:t>PLENARIO XIII RAPAL</a:t>
            </a:r>
            <a:br>
              <a:rPr sz="5000"/>
            </a:br>
            <a:r>
              <a:rPr b="0" lang="es-AR" sz="5000" spc="-1" strike="noStrike">
                <a:solidFill>
                  <a:srgbClr val="000000"/>
                </a:solidFill>
                <a:latin typeface="Times New Roman"/>
              </a:rPr>
              <a:t>DI: 46</a:t>
            </a:r>
            <a:br>
              <a:rPr sz="5000"/>
            </a:br>
            <a:r>
              <a:rPr b="0" lang="es-AR" sz="5000" spc="-1" strike="noStrike">
                <a:solidFill>
                  <a:srgbClr val="000000"/>
                </a:solidFill>
                <a:latin typeface="Times New Roman"/>
              </a:rPr>
              <a:t>PRESENTADO POR: ARGENTINA</a:t>
            </a:r>
            <a:br>
              <a:rPr sz="5000"/>
            </a:br>
            <a:r>
              <a:rPr b="0" lang="es-AR" sz="5000" spc="-1" strike="noStrike">
                <a:solidFill>
                  <a:srgbClr val="000000"/>
                </a:solidFill>
                <a:latin typeface="Times New Roman"/>
              </a:rPr>
              <a:t>PUNTO DE AGENDA: 5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43200" y="6400440"/>
            <a:ext cx="12801600" cy="6172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s-AR" sz="6000" spc="-1" strike="noStrike">
                <a:solidFill>
                  <a:srgbClr val="000000"/>
                </a:solidFill>
                <a:latin typeface="Times New Roman"/>
              </a:rPr>
              <a:t>TITULO: CAMPAÑA ANTARTICA DE VERANO 2001/200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s-AR" sz="6000" spc="-1" strike="noStrike">
                <a:solidFill>
                  <a:srgbClr val="000000"/>
                </a:solidFill>
                <a:latin typeface="Times New Roman"/>
              </a:rPr>
              <a:t>PAIS: ARGENTIN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s-AR" sz="6000" spc="-1" strike="noStrike">
                <a:solidFill>
                  <a:srgbClr val="000000"/>
                </a:solidFill>
                <a:latin typeface="Times New Roman"/>
              </a:rPr>
              <a:t>AUTO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00200" y="1218960"/>
            <a:ext cx="15544800" cy="25146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s-AR" sz="6300" spc="-1" strike="noStrike">
                <a:solidFill>
                  <a:srgbClr val="000000"/>
                </a:solidFill>
                <a:latin typeface="Times New Roman"/>
              </a:rPr>
              <a:t>COMANDO CONJUNTO ANTÁRTICO</a:t>
            </a:r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743200" y="11374200"/>
            <a:ext cx="12801600" cy="39034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Autofit/>
          </a:bodyPr>
          <a:p>
            <a:pPr indent="0" algn="ctr">
              <a:spcBef>
                <a:spcPts val="1026"/>
              </a:spcBef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s-AR" sz="4100" spc="-1" strike="noStrike">
                <a:solidFill>
                  <a:srgbClr val="ffffff"/>
                </a:solidFill>
                <a:latin typeface="Times New Roman"/>
              </a:rPr>
              <a:t>Campaña Antártica de Verano 2001- 2002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657600" y="3962520"/>
            <a:ext cx="10972800" cy="8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5000" spc="-1" strike="noStrike">
                <a:solidFill>
                  <a:srgbClr val="000000"/>
                </a:solidFill>
                <a:latin typeface="Arial"/>
              </a:rPr>
              <a:t>FUERZA NAVAL ANTARTICA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66880" y="7467480"/>
            <a:ext cx="11887200" cy="16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5000" spc="-1" strike="noStrike" u="sng">
                <a:solidFill>
                  <a:srgbClr val="3333cc"/>
                </a:solidFill>
                <a:uFillTx/>
                <a:latin typeface="Arial"/>
              </a:rPr>
              <a:t>PROGRAMA ANTARTICO ARGENTINO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276120"/>
            <a:ext cx="17525880" cy="9536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91880" rIns="191880" tIns="95760" bIns="95760" anchor="t">
            <a:spAutoFit/>
          </a:bodyPr>
          <a:p>
            <a:pPr algn="ctr">
              <a:tabLst>
                <a:tab algn="l" pos="0"/>
                <a:tab algn="l" pos="1917720"/>
                <a:tab algn="l" pos="3835440"/>
                <a:tab algn="l" pos="5753160"/>
                <a:tab algn="l" pos="7670880"/>
                <a:tab algn="l" pos="9588600"/>
              </a:tabLst>
            </a:pPr>
            <a:r>
              <a:rPr b="1" lang="es-AR" sz="5000" spc="-1" strike="noStrike">
                <a:solidFill>
                  <a:srgbClr val="000000"/>
                </a:solidFill>
                <a:latin typeface="Times New Roman"/>
              </a:rPr>
              <a:t>CAMPAÑA ANTÁRTICA 2001-2002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866960"/>
            <a:ext cx="8686800" cy="5727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91880" rIns="191880" tIns="95760" bIns="95760" anchor="t">
            <a:spAutoFit/>
          </a:bodyPr>
          <a:p>
            <a:pPr algn="ctr">
              <a:tabLst>
                <a:tab algn="l" pos="0"/>
                <a:tab algn="l" pos="1917720"/>
                <a:tab algn="l" pos="3835440"/>
                <a:tab algn="l" pos="5753160"/>
                <a:tab algn="l" pos="7670880"/>
                <a:tab algn="l" pos="9588600"/>
              </a:tabLst>
            </a:pPr>
            <a:r>
              <a:rPr b="1" lang="es-AR" sz="2500" spc="-1" strike="noStrike">
                <a:solidFill>
                  <a:srgbClr val="000000"/>
                </a:solidFill>
                <a:latin typeface="Times New Roman"/>
              </a:rPr>
              <a:t>ETAPAS REALIZADAS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98240" y="4416480"/>
            <a:ext cx="3661200" cy="5727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91880" rIns="191880" tIns="95760" bIns="95760" anchor="t">
            <a:spAutoFit/>
          </a:bodyPr>
          <a:p>
            <a:pPr>
              <a:tabLst>
                <a:tab algn="l" pos="0"/>
                <a:tab algn="l" pos="1917720"/>
                <a:tab algn="l" pos="3835440"/>
                <a:tab algn="l" pos="5753160"/>
                <a:tab algn="l" pos="7670880"/>
                <a:tab algn="l" pos="9588600"/>
              </a:tabLst>
            </a:pPr>
            <a:r>
              <a:rPr b="1" lang="es-AR" sz="2500" spc="-1" strike="noStrike">
                <a:solidFill>
                  <a:srgbClr val="000000"/>
                </a:solidFill>
                <a:latin typeface="Times New Roman"/>
              </a:rPr>
              <a:t>26 DE ENERO DE 2002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12200" y="5775480"/>
            <a:ext cx="3747960" cy="5727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91880" rIns="191880" tIns="95760" bIns="95760" anchor="t">
            <a:spAutoFit/>
          </a:bodyPr>
          <a:p>
            <a:pPr>
              <a:tabLst>
                <a:tab algn="l" pos="0"/>
                <a:tab algn="l" pos="1917720"/>
                <a:tab algn="l" pos="3835440"/>
                <a:tab algn="l" pos="5753160"/>
                <a:tab algn="l" pos="7670880"/>
                <a:tab algn="l" pos="9588600"/>
              </a:tabLst>
            </a:pPr>
            <a:r>
              <a:rPr b="1" lang="es-AR" sz="2500" spc="-1" strike="noStrike">
                <a:solidFill>
                  <a:srgbClr val="000000"/>
                </a:solidFill>
                <a:latin typeface="Times New Roman"/>
              </a:rPr>
              <a:t>28 DE MARZO DE 2002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446080" y="4413240"/>
            <a:ext cx="3379320" cy="5727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91880" rIns="191880" tIns="95760" bIns="95760" anchor="t">
            <a:spAutoFit/>
          </a:bodyPr>
          <a:p>
            <a:pPr>
              <a:tabLst>
                <a:tab algn="l" pos="0"/>
                <a:tab algn="l" pos="1917720"/>
                <a:tab algn="l" pos="3835440"/>
                <a:tab algn="l" pos="5753160"/>
                <a:tab algn="l" pos="7670880"/>
                <a:tab algn="l" pos="9588600"/>
              </a:tabLst>
            </a:pPr>
            <a:r>
              <a:rPr b="1" lang="es-AR" sz="2500" spc="-1" strike="noStrike">
                <a:solidFill>
                  <a:srgbClr val="000000"/>
                </a:solidFill>
                <a:latin typeface="Times New Roman"/>
              </a:rPr>
              <a:t>6 DE ABRIL DE 2002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448600" y="5772240"/>
            <a:ext cx="3377520" cy="5727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91880" rIns="191880" tIns="95760" bIns="95760" anchor="t">
            <a:spAutoFit/>
          </a:bodyPr>
          <a:p>
            <a:pPr>
              <a:tabLst>
                <a:tab algn="l" pos="0"/>
                <a:tab algn="l" pos="1917720"/>
                <a:tab algn="l" pos="3835440"/>
                <a:tab algn="l" pos="5753160"/>
                <a:tab algn="l" pos="7670880"/>
                <a:tab algn="l" pos="9588600"/>
              </a:tabLst>
            </a:pPr>
            <a:r>
              <a:rPr b="1" lang="es-AR" sz="2500" spc="-1" strike="noStrike">
                <a:solidFill>
                  <a:srgbClr val="000000"/>
                </a:solidFill>
                <a:latin typeface="Times New Roman"/>
              </a:rPr>
              <a:t>8 DE MAYO DE 2002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125080" y="1866960"/>
            <a:ext cx="6553440" cy="5727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91880" rIns="191880" tIns="95760" bIns="95760" anchor="t">
            <a:spAutoFit/>
          </a:bodyPr>
          <a:p>
            <a:pPr algn="ctr">
              <a:tabLst>
                <a:tab algn="l" pos="0"/>
                <a:tab algn="l" pos="1917720"/>
                <a:tab algn="l" pos="3835440"/>
                <a:tab algn="l" pos="5753160"/>
                <a:tab algn="l" pos="7670880"/>
                <a:tab algn="l" pos="9588600"/>
              </a:tabLst>
            </a:pPr>
            <a:r>
              <a:rPr b="1" lang="es-AR" sz="2500" spc="-1" strike="noStrike">
                <a:solidFill>
                  <a:srgbClr val="000000"/>
                </a:solidFill>
                <a:latin typeface="Times New Roman"/>
              </a:rPr>
              <a:t>MEDIO EMPLEADO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157720" y="3565440"/>
            <a:ext cx="1212120" cy="5727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91880" rIns="191880" tIns="95760" bIns="95760" anchor="t">
            <a:spAutoFit/>
          </a:bodyPr>
          <a:p>
            <a:pPr>
              <a:tabLst>
                <a:tab algn="l" pos="0"/>
                <a:tab algn="l" pos="1917720"/>
                <a:tab algn="l" pos="3835440"/>
                <a:tab algn="l" pos="5753160"/>
                <a:tab algn="l" pos="7670880"/>
                <a:tab algn="l" pos="9588600"/>
              </a:tabLst>
            </a:pPr>
            <a:r>
              <a:rPr b="1" lang="es-AR" sz="2500" spc="-1" strike="noStrike">
                <a:solidFill>
                  <a:srgbClr val="000000"/>
                </a:solidFill>
                <a:latin typeface="Times New Roman"/>
              </a:rPr>
              <a:t>RHAI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094720" y="4413240"/>
            <a:ext cx="3161160" cy="5727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91880" rIns="191880" tIns="95760" bIns="95760" anchor="t">
            <a:spAutoFit/>
          </a:bodyPr>
          <a:p>
            <a:pPr>
              <a:tabLst>
                <a:tab algn="l" pos="0"/>
                <a:tab algn="l" pos="1917720"/>
                <a:tab algn="l" pos="3835440"/>
                <a:tab algn="l" pos="5753160"/>
                <a:tab algn="l" pos="7670880"/>
                <a:tab algn="l" pos="9588600"/>
              </a:tabLst>
            </a:pPr>
            <a:r>
              <a:rPr b="1" lang="es-AR" sz="2500" spc="-1" strike="noStrike">
                <a:solidFill>
                  <a:srgbClr val="000000"/>
                </a:solidFill>
                <a:latin typeface="Times New Roman"/>
              </a:rPr>
              <a:t>2 HELICÓPTERO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128200" y="5173560"/>
            <a:ext cx="2693520" cy="5727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91880" rIns="191880" tIns="95760" bIns="95760" anchor="t">
            <a:spAutoFit/>
          </a:bodyPr>
          <a:p>
            <a:pPr>
              <a:tabLst>
                <a:tab algn="l" pos="0"/>
                <a:tab algn="l" pos="1917720"/>
                <a:tab algn="l" pos="3835440"/>
                <a:tab algn="l" pos="5753160"/>
                <a:tab algn="l" pos="7670880"/>
                <a:tab algn="l" pos="9588600"/>
              </a:tabLst>
            </a:pPr>
            <a:r>
              <a:rPr b="1" lang="es-AR" sz="2500" spc="-1" strike="noStrike">
                <a:solidFill>
                  <a:srgbClr val="000000"/>
                </a:solidFill>
                <a:latin typeface="Times New Roman"/>
              </a:rPr>
              <a:t>1 TWIN OTT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4155920" y="5965920"/>
            <a:ext cx="1326240" cy="5727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91880" rIns="191880" tIns="95760" bIns="95760" anchor="t">
            <a:spAutoFit/>
          </a:bodyPr>
          <a:p>
            <a:pPr>
              <a:tabLst>
                <a:tab algn="l" pos="0"/>
                <a:tab algn="l" pos="1917720"/>
                <a:tab algn="l" pos="3835440"/>
                <a:tab algn="l" pos="5753160"/>
                <a:tab algn="l" pos="7670880"/>
                <a:tab algn="l" pos="9588600"/>
              </a:tabLst>
            </a:pPr>
            <a:r>
              <a:rPr b="1" lang="es-AR" sz="2500" spc="-1" strike="noStrike">
                <a:solidFill>
                  <a:srgbClr val="000000"/>
                </a:solidFill>
                <a:latin typeface="Times New Roman"/>
              </a:rPr>
              <a:t>2 C130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9280" y="7639200"/>
            <a:ext cx="4692960" cy="5727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91880" rIns="191880" tIns="95760" bIns="95760" anchor="t">
            <a:spAutoFit/>
          </a:bodyPr>
          <a:p>
            <a:pPr>
              <a:tabLst>
                <a:tab algn="l" pos="0"/>
                <a:tab algn="l" pos="1917720"/>
                <a:tab algn="l" pos="3835440"/>
                <a:tab algn="l" pos="5753160"/>
                <a:tab algn="l" pos="7670880"/>
                <a:tab algn="l" pos="9588600"/>
              </a:tabLst>
            </a:pPr>
            <a:r>
              <a:rPr b="1" lang="es-AR" sz="2500" spc="-1" strike="noStrike">
                <a:solidFill>
                  <a:srgbClr val="000000"/>
                </a:solidFill>
                <a:latin typeface="Times New Roman"/>
              </a:rPr>
              <a:t>KILÓMETROS NAVEGADO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085680" y="7639200"/>
            <a:ext cx="1176840" cy="5727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91880" rIns="191880" tIns="95760" bIns="95760" anchor="t">
            <a:spAutoFit/>
          </a:bodyPr>
          <a:p>
            <a:pPr>
              <a:tabLst>
                <a:tab algn="l" pos="0"/>
                <a:tab algn="l" pos="1917720"/>
                <a:tab algn="l" pos="3835440"/>
                <a:tab algn="l" pos="5753160"/>
                <a:tab algn="l" pos="7670880"/>
                <a:tab algn="l" pos="9588600"/>
              </a:tabLst>
            </a:pPr>
            <a:r>
              <a:rPr b="1" lang="es-AR" sz="2500" spc="-1" strike="noStrike">
                <a:solidFill>
                  <a:srgbClr val="000000"/>
                </a:solidFill>
                <a:latin typeface="Times New Roman"/>
              </a:rPr>
              <a:t>36000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4840" y="8543880"/>
            <a:ext cx="7926840" cy="5727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91880" rIns="191880" tIns="95760" bIns="95760" anchor="t">
            <a:spAutoFit/>
          </a:bodyPr>
          <a:p>
            <a:pPr>
              <a:tabLst>
                <a:tab algn="l" pos="0"/>
                <a:tab algn="l" pos="1917720"/>
                <a:tab algn="l" pos="3835440"/>
                <a:tab algn="l" pos="5753160"/>
                <a:tab algn="l" pos="7670880"/>
                <a:tab algn="l" pos="9588600"/>
              </a:tabLst>
            </a:pPr>
            <a:r>
              <a:rPr b="1" lang="es-AR" sz="2500" spc="-1" strike="noStrike">
                <a:solidFill>
                  <a:srgbClr val="000000"/>
                </a:solidFill>
                <a:latin typeface="Times New Roman"/>
              </a:rPr>
              <a:t>HORAS DE VUELO HELICÓPTEROS EMPLEADA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045000" y="8543880"/>
            <a:ext cx="1626480" cy="5727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91880" rIns="191880" tIns="95760" bIns="95760" anchor="t">
            <a:spAutoFit/>
          </a:bodyPr>
          <a:p>
            <a:pPr>
              <a:tabLst>
                <a:tab algn="l" pos="0"/>
                <a:tab algn="l" pos="1917720"/>
                <a:tab algn="l" pos="3835440"/>
                <a:tab algn="l" pos="5753160"/>
                <a:tab algn="l" pos="7670880"/>
                <a:tab algn="l" pos="9588600"/>
              </a:tabLst>
            </a:pPr>
            <a:r>
              <a:rPr b="1" lang="es-AR" sz="2500" spc="-1" strike="noStrike">
                <a:solidFill>
                  <a:srgbClr val="000000"/>
                </a:solidFill>
                <a:latin typeface="Times New Roman"/>
              </a:rPr>
              <a:t>180,5 H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6480" y="9393120"/>
            <a:ext cx="4266000" cy="5727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91880" rIns="191880" tIns="95760" bIns="95760" anchor="t">
            <a:spAutoFit/>
          </a:bodyPr>
          <a:p>
            <a:pPr>
              <a:tabLst>
                <a:tab algn="l" pos="0"/>
                <a:tab algn="l" pos="1917720"/>
                <a:tab algn="l" pos="3835440"/>
                <a:tab algn="l" pos="5753160"/>
                <a:tab algn="l" pos="7670880"/>
                <a:tab algn="l" pos="9588600"/>
              </a:tabLst>
            </a:pPr>
            <a:r>
              <a:rPr b="1" lang="es-AR" sz="2500" spc="-1" strike="noStrike">
                <a:solidFill>
                  <a:srgbClr val="000000"/>
                </a:solidFill>
                <a:latin typeface="Times New Roman"/>
              </a:rPr>
              <a:t>CARGA TRANSPORTAD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054000" y="9336240"/>
            <a:ext cx="1519920" cy="5727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91880" rIns="191880" tIns="95760" bIns="95760" anchor="t">
            <a:spAutoFit/>
          </a:bodyPr>
          <a:p>
            <a:pPr>
              <a:tabLst>
                <a:tab algn="l" pos="0"/>
                <a:tab algn="l" pos="1917720"/>
                <a:tab algn="l" pos="3835440"/>
                <a:tab algn="l" pos="5753160"/>
                <a:tab algn="l" pos="7670880"/>
                <a:tab algn="l" pos="9588600"/>
              </a:tabLst>
            </a:pPr>
            <a:r>
              <a:rPr b="1" lang="es-AR" sz="2500" spc="-1" strike="noStrike">
                <a:solidFill>
                  <a:srgbClr val="000000"/>
                </a:solidFill>
                <a:latin typeface="Times New Roman"/>
              </a:rPr>
              <a:t>3439 m3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6200" y="10242720"/>
            <a:ext cx="8271360" cy="5727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91880" rIns="191880" tIns="95760" bIns="95760" anchor="t">
            <a:spAutoFit/>
          </a:bodyPr>
          <a:p>
            <a:pPr>
              <a:tabLst>
                <a:tab algn="l" pos="0"/>
                <a:tab algn="l" pos="1917720"/>
                <a:tab algn="l" pos="3835440"/>
                <a:tab algn="l" pos="5753160"/>
                <a:tab algn="l" pos="7670880"/>
                <a:tab algn="l" pos="9588600"/>
              </a:tabLst>
            </a:pPr>
            <a:r>
              <a:rPr b="1" lang="es-AR" sz="2500" spc="-1" strike="noStrike">
                <a:solidFill>
                  <a:srgbClr val="000000"/>
                </a:solidFill>
                <a:latin typeface="Times New Roman"/>
              </a:rPr>
              <a:t>PERSONAL LOGÍSTICO CIENTÍFICO DESPLEGAD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059760" y="10242720"/>
            <a:ext cx="860040" cy="5727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91880" rIns="191880" tIns="95760" bIns="95760" anchor="t">
            <a:spAutoFit/>
          </a:bodyPr>
          <a:p>
            <a:pPr>
              <a:tabLst>
                <a:tab algn="l" pos="0"/>
                <a:tab algn="l" pos="1917720"/>
                <a:tab algn="l" pos="3835440"/>
                <a:tab algn="l" pos="5753160"/>
                <a:tab algn="l" pos="7670880"/>
                <a:tab algn="l" pos="9588600"/>
              </a:tabLst>
            </a:pPr>
            <a:r>
              <a:rPr b="1" lang="es-AR" sz="2500" spc="-1" strike="noStrike">
                <a:solidFill>
                  <a:srgbClr val="000000"/>
                </a:solidFill>
                <a:latin typeface="Times New Roman"/>
              </a:rPr>
              <a:t>238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3320" y="11034720"/>
            <a:ext cx="3724920" cy="5727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91880" rIns="191880" tIns="95760" bIns="95760" anchor="t">
            <a:spAutoFit/>
          </a:bodyPr>
          <a:p>
            <a:pPr>
              <a:tabLst>
                <a:tab algn="l" pos="0"/>
                <a:tab algn="l" pos="1917720"/>
                <a:tab algn="l" pos="3835440"/>
                <a:tab algn="l" pos="5753160"/>
                <a:tab algn="l" pos="7670880"/>
                <a:tab algn="l" pos="9588600"/>
              </a:tabLst>
            </a:pPr>
            <a:r>
              <a:rPr b="1" lang="es-AR" sz="2500" spc="-1" strike="noStrike">
                <a:solidFill>
                  <a:srgbClr val="000000"/>
                </a:solidFill>
                <a:latin typeface="Times New Roman"/>
              </a:rPr>
              <a:t>BASES ABASTECIDA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097920" y="11034720"/>
            <a:ext cx="542880" cy="5727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91880" rIns="191880" tIns="95760" bIns="95760" anchor="t">
            <a:spAutoFit/>
          </a:bodyPr>
          <a:p>
            <a:pPr>
              <a:tabLst>
                <a:tab algn="l" pos="0"/>
                <a:tab algn="l" pos="1917720"/>
                <a:tab algn="l" pos="3835440"/>
                <a:tab algn="l" pos="5753160"/>
                <a:tab algn="l" pos="7670880"/>
                <a:tab algn="l" pos="9588600"/>
              </a:tabLst>
            </a:pPr>
            <a:r>
              <a:rPr b="1" lang="es-AR" sz="25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05720" y="11882520"/>
            <a:ext cx="6833880" cy="5727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91880" rIns="191880" tIns="95760" bIns="95760" anchor="t">
            <a:spAutoFit/>
          </a:bodyPr>
          <a:p>
            <a:pPr>
              <a:tabLst>
                <a:tab algn="l" pos="0"/>
                <a:tab algn="l" pos="1917720"/>
                <a:tab algn="l" pos="3835440"/>
                <a:tab algn="l" pos="5753160"/>
                <a:tab algn="l" pos="7670880"/>
                <a:tab algn="l" pos="9588600"/>
              </a:tabLst>
            </a:pPr>
            <a:r>
              <a:rPr b="1" lang="es-AR" sz="2500" spc="-1" strike="noStrike">
                <a:solidFill>
                  <a:srgbClr val="000000"/>
                </a:solidFill>
                <a:latin typeface="Times New Roman"/>
              </a:rPr>
              <a:t>REFUGIOS TEMPORARIOS HABILITADO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066240" y="11882520"/>
            <a:ext cx="542880" cy="5727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91880" rIns="191880" tIns="95760" bIns="95760" anchor="t">
            <a:spAutoFit/>
          </a:bodyPr>
          <a:p>
            <a:pPr>
              <a:tabLst>
                <a:tab algn="l" pos="0"/>
                <a:tab algn="l" pos="1917720"/>
                <a:tab algn="l" pos="3835440"/>
                <a:tab algn="l" pos="5753160"/>
                <a:tab algn="l" pos="7670880"/>
                <a:tab algn="l" pos="9588600"/>
              </a:tabLst>
            </a:pPr>
            <a:r>
              <a:rPr b="1" lang="es-AR" sz="25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1800" y="12731760"/>
            <a:ext cx="4322520" cy="5727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91880" rIns="191880" tIns="95760" bIns="95760" anchor="t">
            <a:spAutoFit/>
          </a:bodyPr>
          <a:p>
            <a:pPr>
              <a:tabLst>
                <a:tab algn="l" pos="0"/>
                <a:tab algn="l" pos="1917720"/>
                <a:tab algn="l" pos="3835440"/>
                <a:tab algn="l" pos="5753160"/>
                <a:tab algn="l" pos="7670880"/>
                <a:tab algn="l" pos="9588600"/>
              </a:tabLst>
            </a:pPr>
            <a:r>
              <a:rPr b="1" lang="es-AR" sz="2500" spc="-1" strike="noStrike">
                <a:solidFill>
                  <a:srgbClr val="000000"/>
                </a:solidFill>
                <a:latin typeface="Times New Roman"/>
              </a:rPr>
              <a:t>BASES INSPECCIONADA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066240" y="12731760"/>
            <a:ext cx="542880" cy="5727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91880" rIns="191880" tIns="95760" bIns="95760" anchor="t">
            <a:spAutoFit/>
          </a:bodyPr>
          <a:p>
            <a:pPr>
              <a:tabLst>
                <a:tab algn="l" pos="0"/>
                <a:tab algn="l" pos="1917720"/>
                <a:tab algn="l" pos="3835440"/>
                <a:tab algn="l" pos="5753160"/>
                <a:tab algn="l" pos="7670880"/>
                <a:tab algn="l" pos="9588600"/>
              </a:tabLst>
            </a:pPr>
            <a:r>
              <a:rPr b="1" lang="es-AR" sz="25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6880" y="13581000"/>
            <a:ext cx="5617800" cy="5727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91880" rIns="191880" tIns="95760" bIns="95760" anchor="t">
            <a:spAutoFit/>
          </a:bodyPr>
          <a:p>
            <a:pPr>
              <a:tabLst>
                <a:tab algn="l" pos="0"/>
                <a:tab algn="l" pos="1917720"/>
                <a:tab algn="l" pos="3835440"/>
                <a:tab algn="l" pos="5753160"/>
                <a:tab algn="l" pos="7670880"/>
                <a:tab algn="l" pos="9588600"/>
              </a:tabLst>
            </a:pPr>
            <a:r>
              <a:rPr b="1" lang="es-AR" sz="2500" spc="-1" strike="noStrike">
                <a:solidFill>
                  <a:srgbClr val="000000"/>
                </a:solidFill>
                <a:latin typeface="Times New Roman"/>
              </a:rPr>
              <a:t>BASES EXTRANJERAS VISITADA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066240" y="13581000"/>
            <a:ext cx="542880" cy="5727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91880" rIns="191880" tIns="95760" bIns="95760" anchor="t">
            <a:spAutoFit/>
          </a:bodyPr>
          <a:p>
            <a:pPr>
              <a:tabLst>
                <a:tab algn="l" pos="0"/>
                <a:tab algn="l" pos="1917720"/>
                <a:tab algn="l" pos="3835440"/>
                <a:tab algn="l" pos="5753160"/>
                <a:tab algn="l" pos="7670880"/>
                <a:tab algn="l" pos="9588600"/>
              </a:tabLst>
            </a:pPr>
            <a:r>
              <a:rPr b="1" lang="es-AR" sz="25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3106520" y="3903840"/>
            <a:ext cx="1047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3087440" y="611172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087440" y="543240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3087440" y="475308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086440" y="7953480"/>
            <a:ext cx="3962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134200" y="897264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29240" y="9651960"/>
            <a:ext cx="4419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439120" y="1049976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172040" y="11349000"/>
            <a:ext cx="4876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067520" y="12198240"/>
            <a:ext cx="1981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781520" y="13046040"/>
            <a:ext cx="4267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00840" y="13895280"/>
            <a:ext cx="3047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33720" y="5095800"/>
            <a:ext cx="0" cy="679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838160" y="3056040"/>
            <a:ext cx="730440" cy="709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91880" rIns="191880" tIns="95760" bIns="95760" anchor="t">
            <a:spAutoFit/>
          </a:bodyPr>
          <a:p>
            <a:pPr>
              <a:tabLst>
                <a:tab algn="l" pos="0"/>
                <a:tab algn="l" pos="1917720"/>
                <a:tab algn="l" pos="3835440"/>
                <a:tab algn="l" pos="5753160"/>
                <a:tab algn="l" pos="7670880"/>
                <a:tab algn="l" pos="9588600"/>
              </a:tabLst>
            </a:pPr>
            <a:r>
              <a:rPr b="1" lang="es-AR" sz="3400" spc="-1" strike="noStrike">
                <a:solidFill>
                  <a:srgbClr val="000000"/>
                </a:solidFill>
                <a:latin typeface="Times New Roman"/>
              </a:rPr>
              <a:t>1ª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62440" y="3056040"/>
            <a:ext cx="730440" cy="709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91880" rIns="191880" tIns="95760" bIns="95760" anchor="t">
            <a:spAutoFit/>
          </a:bodyPr>
          <a:p>
            <a:pPr>
              <a:tabLst>
                <a:tab algn="l" pos="0"/>
                <a:tab algn="l" pos="1917720"/>
                <a:tab algn="l" pos="3835440"/>
                <a:tab algn="l" pos="5753160"/>
                <a:tab algn="l" pos="7670880"/>
                <a:tab algn="l" pos="9588600"/>
              </a:tabLst>
            </a:pPr>
            <a:r>
              <a:rPr b="1" lang="es-AR" sz="3400" spc="-1" strike="noStrike">
                <a:solidFill>
                  <a:srgbClr val="000000"/>
                </a:solidFill>
                <a:latin typeface="Times New Roman"/>
              </a:rPr>
              <a:t>2ª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133720" y="3903840"/>
            <a:ext cx="0" cy="509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33720" y="2546280"/>
            <a:ext cx="0" cy="509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0" y="2546280"/>
            <a:ext cx="0" cy="509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0" y="3903840"/>
            <a:ext cx="0" cy="509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5092560"/>
            <a:ext cx="0" cy="679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13106520" y="2546280"/>
            <a:ext cx="0" cy="3565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3875040" y="4113360"/>
          <a:ext cx="10690200" cy="8278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75040" y="4113360"/>
                    <a:ext cx="10690200" cy="827856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4181760" y="2716200"/>
            <a:ext cx="10071000" cy="77112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91880" rIns="191880" tIns="95760" bIns="95760" anchor="t">
            <a:spAutoFit/>
          </a:bodyPr>
          <a:p>
            <a:pPr>
              <a:tabLst>
                <a:tab algn="l" pos="0"/>
                <a:tab algn="l" pos="1917720"/>
                <a:tab algn="l" pos="3835440"/>
                <a:tab algn="l" pos="5753160"/>
                <a:tab algn="l" pos="7670880"/>
                <a:tab algn="l" pos="9588600"/>
              </a:tabLst>
            </a:pPr>
            <a:r>
              <a:rPr b="1" lang="es-AR" sz="3800" spc="-1" strike="noStrike">
                <a:solidFill>
                  <a:srgbClr val="000000"/>
                </a:solidFill>
                <a:latin typeface="Times New Roman"/>
              </a:rPr>
              <a:t>PLANES CIENTÍFICOS DESARROLLADO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509760"/>
            <a:ext cx="17983080" cy="9536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91880" rIns="191880" tIns="95760" bIns="95760" anchor="t">
            <a:spAutoFit/>
          </a:bodyPr>
          <a:p>
            <a:pPr algn="ctr">
              <a:tabLst>
                <a:tab algn="l" pos="0"/>
                <a:tab algn="l" pos="1917720"/>
                <a:tab algn="l" pos="3835440"/>
                <a:tab algn="l" pos="5753160"/>
                <a:tab algn="l" pos="7670880"/>
                <a:tab algn="l" pos="9588600"/>
              </a:tabLst>
            </a:pPr>
            <a:r>
              <a:rPr b="1" lang="es-AR" sz="5000" spc="-1" strike="noStrike">
                <a:solidFill>
                  <a:srgbClr val="000000"/>
                </a:solidFill>
                <a:latin typeface="Times New Roman"/>
              </a:rPr>
              <a:t>CAMPAÑA ANTÁRTICA 2001-2002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52280" y="679320"/>
            <a:ext cx="14859000" cy="77112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91880" rIns="191880" tIns="95760" bIns="95760" anchor="t">
            <a:spAutoFit/>
          </a:bodyPr>
          <a:p>
            <a:pPr>
              <a:tabLst>
                <a:tab algn="l" pos="0"/>
                <a:tab algn="l" pos="1917720"/>
                <a:tab algn="l" pos="3835440"/>
                <a:tab algn="l" pos="5753160"/>
                <a:tab algn="l" pos="7670880"/>
                <a:tab algn="l" pos="9588600"/>
              </a:tabLst>
            </a:pPr>
            <a:r>
              <a:rPr b="1" lang="es-AR" sz="3800" spc="-1" strike="noStrike">
                <a:solidFill>
                  <a:srgbClr val="000000"/>
                </a:solidFill>
                <a:latin typeface="Times New Roman"/>
              </a:rPr>
              <a:t>TAREAS REALIZADAS AJENAS AL PLAN ANUAL ANTÁRTICO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44520" y="2716200"/>
            <a:ext cx="7128360" cy="572760"/>
          </a:xfrm>
          <a:prstGeom prst="rect">
            <a:avLst/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91880" rIns="191880" tIns="95760" bIns="95760" anchor="t">
            <a:spAutoFit/>
          </a:bodyPr>
          <a:p>
            <a:pPr>
              <a:tabLst>
                <a:tab algn="l" pos="0"/>
                <a:tab algn="l" pos="1917720"/>
                <a:tab algn="l" pos="3835440"/>
                <a:tab algn="l" pos="5753160"/>
                <a:tab algn="l" pos="7670880"/>
                <a:tab algn="l" pos="9588600"/>
              </a:tabLst>
            </a:pPr>
            <a:r>
              <a:rPr b="1" lang="es-AR" sz="2500" spc="-1" strike="noStrike">
                <a:solidFill>
                  <a:srgbClr val="000000"/>
                </a:solidFill>
                <a:latin typeface="Times New Roman"/>
              </a:rPr>
              <a:t>1- EVACUACIÓN SANITARIA BASE PALM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27520" y="3652920"/>
            <a:ext cx="14690160" cy="572760"/>
          </a:xfrm>
          <a:prstGeom prst="rect">
            <a:avLst/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91880" rIns="191880" tIns="95760" bIns="95760" anchor="t">
            <a:spAutoFit/>
          </a:bodyPr>
          <a:p>
            <a:pPr>
              <a:tabLst>
                <a:tab algn="l" pos="0"/>
                <a:tab algn="l" pos="1917720"/>
                <a:tab algn="l" pos="3835440"/>
                <a:tab algn="l" pos="5753160"/>
                <a:tab algn="l" pos="7670880"/>
                <a:tab algn="l" pos="9588600"/>
              </a:tabLst>
            </a:pPr>
            <a:r>
              <a:rPr b="1" lang="es-AR" sz="2500" spc="-1" strike="noStrike">
                <a:solidFill>
                  <a:srgbClr val="000000"/>
                </a:solidFill>
                <a:latin typeface="Times New Roman"/>
              </a:rPr>
              <a:t>2- EXPLORACIÓN DEL CANAL PRÍNCIPE GUSTAVO PARA SU USO EN PRÓXIMAS CAMPAÑA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08240" y="4568760"/>
            <a:ext cx="5816160" cy="572760"/>
          </a:xfrm>
          <a:prstGeom prst="rect">
            <a:avLst/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91880" rIns="191880" tIns="95760" bIns="95760" anchor="t">
            <a:spAutoFit/>
          </a:bodyPr>
          <a:p>
            <a:pPr>
              <a:tabLst>
                <a:tab algn="l" pos="0"/>
                <a:tab algn="l" pos="1917720"/>
                <a:tab algn="l" pos="3835440"/>
                <a:tab algn="l" pos="5753160"/>
                <a:tab algn="l" pos="7670880"/>
                <a:tab algn="l" pos="9588600"/>
              </a:tabLst>
            </a:pPr>
            <a:r>
              <a:rPr b="1" lang="es-AR" sz="2500" spc="-1" strike="noStrike">
                <a:solidFill>
                  <a:srgbClr val="000000"/>
                </a:solidFill>
                <a:latin typeface="Times New Roman"/>
              </a:rPr>
              <a:t>3- REIMPLANTE DEDO AMPUTAD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2280" y="9361440"/>
            <a:ext cx="8534520" cy="77112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91880" rIns="191880" tIns="95760" bIns="95760" anchor="t">
            <a:spAutoFit/>
          </a:bodyPr>
          <a:p>
            <a:pPr>
              <a:tabLst>
                <a:tab algn="l" pos="0"/>
                <a:tab algn="l" pos="1917720"/>
                <a:tab algn="l" pos="3835440"/>
                <a:tab algn="l" pos="5753160"/>
                <a:tab algn="l" pos="7670880"/>
                <a:tab algn="l" pos="9588600"/>
              </a:tabLst>
            </a:pPr>
            <a:r>
              <a:rPr b="1" lang="es-AR" sz="3800" spc="-1" strike="noStrike">
                <a:solidFill>
                  <a:srgbClr val="000000"/>
                </a:solidFill>
                <a:latin typeface="Times New Roman"/>
              </a:rPr>
              <a:t>TAREA DE INTERÉS PARTICULAR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52160" y="11398320"/>
            <a:ext cx="9586440" cy="572760"/>
          </a:xfrm>
          <a:prstGeom prst="rect">
            <a:avLst/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91880" rIns="191880" tIns="95760" bIns="95760" anchor="t">
            <a:spAutoFit/>
          </a:bodyPr>
          <a:p>
            <a:pPr>
              <a:tabLst>
                <a:tab algn="l" pos="0"/>
                <a:tab algn="l" pos="1917720"/>
                <a:tab algn="l" pos="3835440"/>
                <a:tab algn="l" pos="5753160"/>
                <a:tab algn="l" pos="7670880"/>
                <a:tab algn="l" pos="9588600"/>
              </a:tabLst>
            </a:pPr>
            <a:r>
              <a:rPr b="1" lang="es-AR" sz="2500" spc="-1" strike="noStrike">
                <a:solidFill>
                  <a:srgbClr val="000000"/>
                </a:solidFill>
                <a:latin typeface="Times New Roman"/>
              </a:rPr>
              <a:t>MUSEO CASA MONETA Y OMOND HOUSE (BASE ORCADAS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3T13:58:59Z</dcterms:created>
  <dc:creator>JEM</dc:creator>
  <dc:description/>
  <dc:language>en-US</dc:language>
  <cp:lastModifiedBy>departamento politica</cp:lastModifiedBy>
  <dcterms:modified xsi:type="dcterms:W3CDTF">2002-11-08T19:40:27Z</dcterms:modified>
  <cp:revision>77</cp:revision>
  <dc:subject/>
  <dc:title>RAPAL</dc:title>
</cp:coreProperties>
</file>