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8288000" cy="15278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A2C-886B-46C1-9D47-4298F4AB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1554480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9201960"/>
            <a:ext cx="1554480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240-973A-404A-9206-B6BEF961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3696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5C9-179B-4871-B142-540D09B0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27240" y="441468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82880" y="441468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920196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627240" y="920196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82880" y="9201960"/>
            <a:ext cx="500508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F03-1E48-4CD9-B6AA-46A4CCE9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4680"/>
            <a:ext cx="15544800" cy="91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BFB-4ABB-4A44-8A6F-A5F4E22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1554480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2AB-05CF-48F9-AB2A-E92B29DF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594-ABBB-4068-A795-CE2A9D9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742-43AF-4FBE-B1CE-345E117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57200"/>
            <a:ext cx="15544800" cy="118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6D4-8A7D-496E-9846-BF09C1C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66D-1C8B-4B74-A6B1-A10132DA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36960" y="920196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3D8-E692-4C6C-9E46-1221940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36960" y="4414680"/>
            <a:ext cx="758556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9201960"/>
            <a:ext cx="15544800" cy="43714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328-43CF-4BEB-9378-E8F1CF7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357200"/>
            <a:ext cx="15544800" cy="25466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4414680"/>
            <a:ext cx="15544800" cy="91648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19440" indent="-26064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13920840"/>
            <a:ext cx="3809880" cy="1017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s-E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13920840"/>
            <a:ext cx="5790960" cy="1017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s-E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13920840"/>
            <a:ext cx="3809880" cy="1017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s-E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fld id="{7797B54D-C1D8-49A5-BA95-152B2DB29B67}" type="slidenum"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15544800" cy="3657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PLENARIO XIII RAPAL</a:t>
            </a:r>
            <a:br>
              <a:rPr sz="5000"/>
            </a:b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DI: 47</a:t>
            </a:r>
            <a:br>
              <a:rPr sz="5000"/>
            </a:b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PRESENTADO POR: ARGENTINA</a:t>
            </a:r>
            <a:br>
              <a:rPr sz="5000"/>
            </a:br>
            <a:r>
              <a:rPr b="0" lang="es-AR" sz="5000" spc="-1" strike="noStrike">
                <a:solidFill>
                  <a:srgbClr val="000000"/>
                </a:solidFill>
                <a:latin typeface="Times New Roman"/>
              </a:rPr>
              <a:t>PUNTO DE AGENDA: 7.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6400440"/>
            <a:ext cx="12801600" cy="6172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imes New Roman"/>
              </a:rPr>
              <a:t>TITULO: CURSO DE NAVEGACION  ANTAR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imes New Roman"/>
              </a:rPr>
              <a:t>PAIS: ARGENT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6000" spc="-1" strike="noStrike">
                <a:solidFill>
                  <a:srgbClr val="000000"/>
                </a:solidFill>
                <a:latin typeface="Times New Roman"/>
              </a:rPr>
              <a:t>AU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rcRect l="0" t="0" r="19969" b="2114"/>
          <a:stretch/>
        </p:blipFill>
        <p:spPr>
          <a:xfrm>
            <a:off x="0" y="2863800"/>
            <a:ext cx="18288000" cy="11607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05320" y="849240"/>
            <a:ext cx="11430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1880" rIns="191880" tIns="95760" bIns="9576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1917720"/>
                <a:tab algn="l" pos="3835440"/>
                <a:tab algn="l" pos="5753160"/>
                <a:tab algn="l" pos="7670880"/>
                <a:tab algn="l" pos="95886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Arial"/>
              </a:rPr>
              <a:t>SINTESIS DE CALIFICACION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hai1" descr=""/>
          <p:cNvPicPr/>
          <p:nvPr/>
        </p:nvPicPr>
        <p:blipFill>
          <a:blip r:embed="rId1"/>
          <a:stretch/>
        </p:blipFill>
        <p:spPr>
          <a:xfrm>
            <a:off x="1550880" y="1189080"/>
            <a:ext cx="14905080" cy="114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657600" y="847800"/>
            <a:ext cx="1158228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GENTIN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6313320" y="10650600"/>
            <a:ext cx="6583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Times New Roman"/>
              </a:rPr>
              <a:t>SERVICIO DE HIDROGRAFIA NA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Times New Roman"/>
              </a:rPr>
              <a:t>INSTITUTO ARGENTINO DE NAVEGACION</a:t>
            </a:r>
            <a:r>
              <a:rPr b="0" lang="es-ES_tradnl" sz="28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8280" y="12571560"/>
            <a:ext cx="95601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Arial"/>
              </a:rPr>
              <a:t>CURSO DE NAVEGACION ANTAR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50880" y="5937120"/>
            <a:ext cx="15544800" cy="13701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AR" sz="5000" spc="-1" strike="noStrike">
                <a:solidFill>
                  <a:srgbClr val="000000"/>
                </a:solidFill>
                <a:latin typeface="Times New Roman"/>
              </a:rPr>
              <a:t>NAVAN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8880" y="13619160"/>
            <a:ext cx="1295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ffff00"/>
                </a:solidFill>
                <a:latin typeface="Arial"/>
              </a:rPr>
              <a:t>PROGRAMA ANTARTICO ARGENT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90960" y="2057400"/>
          <a:ext cx="11317320" cy="1136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0960" y="2057400"/>
                    <a:ext cx="11317320" cy="1136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596960" y="533520"/>
            <a:ext cx="15779880" cy="14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000" spc="-1" strike="noStrike">
                <a:solidFill>
                  <a:srgbClr val="ff0000"/>
                </a:solidFill>
                <a:latin typeface="Arial"/>
                <a:ea typeface="Arial"/>
              </a:rPr>
              <a:t>OBJETIV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Transmitir</a:t>
            </a:r>
            <a:r>
              <a:rPr b="1" i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la experiencia argentina en la Antártida y compendiar el conocimiento mundial  acumulado y disponible sobre la región a fi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Comprender</a:t>
            </a:r>
            <a:r>
              <a:rPr b="1" i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la teoría de las operaciones marítimas en la Antártida, la generalidad de las disciplinas vinculadas al medio ambiente antártico, y los aspectos salientes de las operaciones marítimas y de la seguridad náutica en la Antárti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Comprender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la síntesis relevante de la supervivencia en tierra y en el mar, de los primeros auxilios, y de la  prevención de derrames y contaminación  en la reg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Aplicar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los conocimientos adquiridos como referencia útil para desempeñarse correctamente en las operaciones marítimas antártic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Aplicar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los medios en regiones antárticas con respeto al medio ambiente, paciencia y habilidad en la maniobra, tanto en condiciones de buen tiempo como bajo situaciones riguros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Valorar</a:t>
            </a:r>
            <a:r>
              <a:rPr b="1" i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la actividad argentina en la Antárti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Relacionar</a:t>
            </a:r>
            <a:r>
              <a:rPr b="1" i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la experiencia con la actualización permanente de conocimientos y la preparación meticulosa durante el adiestramiento con el desempeño exitoso en latitudes antárticas 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Apreciar</a:t>
            </a:r>
            <a:r>
              <a:rPr b="1" lang="es-AR" sz="2800" spc="-1" strike="noStrike">
                <a:solidFill>
                  <a:srgbClr val="ffff99"/>
                </a:solidFill>
                <a:latin typeface="Arial"/>
                <a:ea typeface="Arial"/>
              </a:rPr>
              <a:t> la complejidad, dificultad, imprevisibilidad y severidad del ambiente antártico, y la necesidad imprescindible de protegerlo con sumisión a códigos de conducta más exigentes que en el resto del plan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8288000" cy="15278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ES_tradnl" sz="4100" spc="-1" strike="noStrike">
                <a:solidFill>
                  <a:srgbClr val="ff0000"/>
                </a:solidFill>
                <a:latin typeface="Times New Roman"/>
              </a:rPr>
              <a:t>CURRICUL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390240" y="507960"/>
            <a:ext cx="5841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MEDIO AMBIENTE ANTAR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83200" y="4073400"/>
            <a:ext cx="6371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RELACIONE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Y LEGISLACION</a:t>
            </a: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6620040"/>
            <a:ext cx="106678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XPERIENCIA NÁUTICA Y DE COMANDO RECIENTES</a:t>
            </a: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00240" y="8658360"/>
            <a:ext cx="55058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AVEGACIÓN Y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Á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53720" y="12654000"/>
            <a:ext cx="469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SUPERVIVENCIA EN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ANTAR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191120" y="761760"/>
            <a:ext cx="4419360" cy="60958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67080" y="4419720"/>
            <a:ext cx="464832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7924680"/>
            <a:ext cx="41907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8077320"/>
            <a:ext cx="464796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8229600"/>
            <a:ext cx="4800600" cy="449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43720" y="2206800"/>
            <a:ext cx="29624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COLOGÍA</a:t>
            </a: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58200" y="11033280"/>
            <a:ext cx="5554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SzPct val="125000"/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CONTAMINACIÓN MARINA</a:t>
            </a: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2590560"/>
            <a:ext cx="3886200" cy="4343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343400" y="7130520"/>
            <a:ext cx="2968560" cy="412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8288000" cy="152780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62720" y="0"/>
            <a:ext cx="55292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INTERVENCION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1160" y="7067520"/>
            <a:ext cx="264672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ES_tradnl" sz="2200" spc="-1" strike="noStrike">
                <a:solidFill>
                  <a:srgbClr val="ff0000"/>
                </a:solidFill>
                <a:latin typeface="Times New Roman"/>
              </a:rPr>
              <a:t>ESPECIALI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s-ES_tradnl" sz="2200" spc="-1" strike="noStrike">
                <a:solidFill>
                  <a:srgbClr val="ff0000"/>
                </a:solidFill>
                <a:latin typeface="Times New Roman"/>
              </a:rPr>
              <a:t>( 3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09960" y="1868400"/>
            <a:ext cx="435996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MINISTERIO DE RELA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EXTERIORES, COMERCIO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INTERNACIONAL Y CULT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8960" y="5126040"/>
            <a:ext cx="581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DIRECCION NACIONAL DEL ANTARTIC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9920" y="6143760"/>
            <a:ext cx="5321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INSTITUTO ANTARTICO ARGENTI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7760" y="7229520"/>
            <a:ext cx="561096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COMANDO ANTARTICO DEL EJERCI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ARGENTI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25840" y="10863360"/>
            <a:ext cx="3408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ARMADA ARGENTI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22160" y="8658360"/>
            <a:ext cx="268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FUERZA NAVAL ANTAR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415400" y="10356840"/>
            <a:ext cx="2909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SECRETARIA GENERAL NA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586400" y="11033280"/>
            <a:ext cx="3306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SERVICIO DE HIDROGRAFIA NA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73960" y="11712600"/>
            <a:ext cx="162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FLOTA DE M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06280" y="12223800"/>
            <a:ext cx="3543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2ª  ESCUADRILLA AERONAVAL DE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HELICOPTER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641920" y="2038320"/>
            <a:ext cx="0" cy="12561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1920" y="14600160"/>
            <a:ext cx="606600" cy="50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641920" y="1357200"/>
            <a:ext cx="606600" cy="68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879440" y="7467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039480" y="8146800"/>
            <a:ext cx="0" cy="662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9480" y="814716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39480" y="1477008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582280" y="11204640"/>
            <a:ext cx="15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62760" y="9337680"/>
            <a:ext cx="255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ESCUELA DE SUBMARIN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Y BUC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68040" y="13239720"/>
            <a:ext cx="3265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DIVISIÓN PATRULLADO MARÍTI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2600" y="4106880"/>
            <a:ext cx="3011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2100" spc="-1" strike="noStrike">
                <a:solidFill>
                  <a:srgbClr val="006600"/>
                </a:solidFill>
                <a:latin typeface="Times New Roman"/>
              </a:rPr>
              <a:t>ARMADA DE CH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89680" y="13750920"/>
            <a:ext cx="2300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ESCUELA DE OFICI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DE LA ARM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140720" y="8147160"/>
            <a:ext cx="222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ES_tradnl" sz="1300" spc="-1" strike="noStrike">
                <a:solidFill>
                  <a:srgbClr val="006600"/>
                </a:solidFill>
                <a:latin typeface="Times New Roman"/>
              </a:rPr>
              <a:t>ROMPEHIELOS IRIZ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-1600200" y="57240"/>
          <a:ext cx="22240800" cy="155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57240"/>
                    <a:ext cx="22240800" cy="155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62120" y="0"/>
          <a:ext cx="16763760" cy="157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16763760" cy="157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18288000" cy="152780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1400"/>
            <a:ext cx="18288000" cy="66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700" spc="-1" strike="noStrike">
                <a:solidFill>
                  <a:srgbClr val="3333cc"/>
                </a:solidFill>
                <a:latin typeface="Times New Roman"/>
              </a:rPr>
              <a:t>REGISTRO DE PARTICIPANT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06800"/>
            <a:ext cx="16763760" cy="39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753080"/>
            <a:ext cx="1676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206800"/>
            <a:ext cx="0" cy="39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2206800"/>
            <a:ext cx="0" cy="39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83960" y="2206800"/>
            <a:ext cx="0" cy="39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392520" y="2206800"/>
            <a:ext cx="0" cy="39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6600" y="2630520"/>
            <a:ext cx="225108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JEFES Y OFI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ARMADAS EX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( 1 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65080" y="2644920"/>
            <a:ext cx="214596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JEFES Y OFI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ARMADA ARG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Y  P.N.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55440" y="2206800"/>
            <a:ext cx="199944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CAPITA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MERCAN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ARGENTIN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74440" y="2206800"/>
            <a:ext cx="2193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CAPITA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MERCAN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EXTRANJER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( 2 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14720" y="2630520"/>
            <a:ext cx="1482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ff0000"/>
                </a:solidFill>
                <a:latin typeface="Times New Roman"/>
              </a:rPr>
              <a:t>OYEN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4440" y="4627440"/>
            <a:ext cx="9129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7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11120" y="4584600"/>
            <a:ext cx="9129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7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40160" y="4584600"/>
            <a:ext cx="67824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7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13320" y="4584600"/>
            <a:ext cx="44352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42400" y="4584600"/>
            <a:ext cx="67824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7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299360"/>
            <a:ext cx="1828800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marL="557280" indent="-55728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LEMANIA, BÉLGICA, BOLIVIA, BRASIL, COREA DEL SUR, CHILE, EE.UU. DE AMÉRICA, ECUADOR, ESPAÑA, GUATEMALA, INDIA, ITALIA, MÉXICO, PARAGUAY, PERÚ, SUDÁFRICA, URUGUAY, REINO UNIDO DE GRAN BRETAÑ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0320" y="12596760"/>
            <a:ext cx="94928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 2)  AUSTRALIA, ESPAÑA, ESTADOS UNIDOS DE AM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ICA, ITALIA Y NORU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18288000" cy="152780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20520"/>
            <a:ext cx="18288000" cy="591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NTESIS DE CRITICAS DEL CURSO AÑO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5920" y="1698480"/>
            <a:ext cx="14169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5920" y="1698480"/>
            <a:ext cx="0" cy="186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5880" y="1698480"/>
            <a:ext cx="0" cy="186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5920" y="3565440"/>
            <a:ext cx="14169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8080" y="2117880"/>
            <a:ext cx="3080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COMO GRADUA EL CURSO DES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SU PUNTO DE VISTA PROFES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15600" y="1698480"/>
            <a:ext cx="0" cy="186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76920" y="2120760"/>
            <a:ext cx="3886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OMO CALIFICA AL CURS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495000" y="7731000"/>
            <a:ext cx="206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345600" y="7053120"/>
            <a:ext cx="206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592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1560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588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9280" y="3565440"/>
            <a:ext cx="137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INNECESA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4192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91400" y="3565440"/>
            <a:ext cx="611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UT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66840" y="3565440"/>
            <a:ext cx="1342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IMPORTA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5920" y="4414680"/>
            <a:ext cx="14169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73780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6372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32080" y="3565440"/>
            <a:ext cx="0" cy="8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81920" y="3648240"/>
            <a:ext cx="77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POB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61160" y="3648240"/>
            <a:ext cx="103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10320" y="3633840"/>
            <a:ext cx="79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BUE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550560" y="3648240"/>
            <a:ext cx="1228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MUY BUE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3960" y="4414680"/>
            <a:ext cx="17071920" cy="10015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960" y="6450120"/>
            <a:ext cx="1707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3960" y="8317080"/>
            <a:ext cx="1707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960" y="10356840"/>
            <a:ext cx="1707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3960" y="12391920"/>
            <a:ext cx="1707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63360" y="5172120"/>
            <a:ext cx="143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EXTRANJER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36000" y="7026120"/>
            <a:ext cx="12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MERC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6160" y="11099880"/>
            <a:ext cx="99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OYE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200" y="8996400"/>
            <a:ext cx="95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ARM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8720" y="13082760"/>
            <a:ext cx="1275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TOTAL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592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4192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1560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73780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56372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32080" y="4414680"/>
            <a:ext cx="0" cy="1001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4680" y="500868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99160" y="4921200"/>
            <a:ext cx="410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75280" y="4921200"/>
            <a:ext cx="410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8800" y="495288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64360" y="495288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066640" y="4921200"/>
            <a:ext cx="410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50960" y="4921200"/>
            <a:ext cx="410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68198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93400" y="886140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0" y="108950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800" y="1293480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51400" y="68198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578760" y="68198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751400" y="886140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424680" y="886140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751400" y="108950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424680" y="108950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00800" y="1293480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424680" y="1293480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760" y="1089504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948560" y="108950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43800" y="1089504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16200" y="1089504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948560" y="681984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6819840"/>
            <a:ext cx="410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1880" y="6819840"/>
            <a:ext cx="410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79760" y="681984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24600" y="886140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46960" y="8861400"/>
            <a:ext cx="477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970880" y="8827920"/>
            <a:ext cx="60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- -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17840" y="8861400"/>
            <a:ext cx="477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24600" y="1293480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6520" y="12934800"/>
            <a:ext cx="477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101920" y="12934800"/>
            <a:ext cx="34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1680" y="12903120"/>
            <a:ext cx="477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pPr algn="ctr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3:58:59Z</dcterms:created>
  <dc:creator>JEM</dc:creator>
  <dc:description/>
  <dc:language>en-US</dc:language>
  <cp:lastModifiedBy>departamento politica</cp:lastModifiedBy>
  <dcterms:modified xsi:type="dcterms:W3CDTF">2002-11-08T19:41:58Z</dcterms:modified>
  <cp:revision>75</cp:revision>
  <dc:subject/>
  <dc:title>RAPAL</dc:title>
</cp:coreProperties>
</file>